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4E4-560F-494A-B752-BF9CF4DC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3FF-76A3-40CD-BCFD-CA71F8B8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3A8-F4D4-436E-AADC-DAA75D47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AFE-4E62-4DFE-93DB-DF74D192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344-890D-4457-93D4-7E8BCCD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E08-8196-4346-A7F4-EC5AF37D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5E7-F914-4A88-A482-3577C04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A99-A227-47B2-8A40-36548F28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83B-9F08-46EC-99A9-B1DF03EC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AC9-B62D-41F0-AC1B-D4E613B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39F-D058-409F-BBF8-3873D57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542-EFE1-46F2-8594-14DB732F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42D-7985-4B30-8217-2C905C22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37:06Z</dcterms:created>
  <dc:creator>abeason</dc:creator>
  <dc:description/>
  <dc:language>en-US</dc:language>
  <cp:lastModifiedBy>abeason</cp:lastModifiedBy>
  <dcterms:modified xsi:type="dcterms:W3CDTF">2009-05-27T16:37:09Z</dcterms:modified>
  <cp:revision>1</cp:revision>
  <dc:subject/>
  <dc:title>Slide 1</dc:title>
</cp:coreProperties>
</file>